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3B5E-A199-4AED-B237-DF3B0179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B3CF-BA61-47C1-A10A-098F5BCE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BF34-CB81-4BC2-81E4-A7B9A501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3B06-A734-4388-A195-B335B64F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95F-5313-426F-BA67-DD27897E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1F30-E798-4DA8-A042-7E29483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30B-C8C4-450B-9A46-CBFDA571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B930-C180-46BA-90D5-5C73ABBE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2B2F-EB0C-4F99-A052-390A134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BB3D-BFF2-46BC-9D59-582628F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09B-D53E-454A-845A-47A9BDC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BC34-C65C-40AD-B8A2-BB6B1179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43D9-5E3B-4540-A298-48D7B5F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0372-EEC9-4EFE-97CE-8BEEA90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B71-4673-426E-9F06-3D0D38B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6724-ADB4-4CA9-8D45-0272838D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AC1D-E4E1-4EF0-855B-5959BD14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979F-51E3-4667-9FD1-9F553813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1981-ABC9-469B-BDA9-FF0D6082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F735-3042-455D-AB7F-5B67010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2BDD-377B-4538-8934-9E4F4D22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3857-9847-4074-A713-DFC3A24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574D-488F-4EFC-B3E6-8B274C8D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F9E4-F2F7-489C-9E5C-9046A4FE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AEF0-1123-4EF1-BC6E-841D3FD90C9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3F4-B5A3-4B5A-A212-8F4819035BA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0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, с наште грехов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атоварен бе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тежки мъки изтърп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вята кръв прол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ак е Спасът милости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щава грех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вяра в Него ще съм жи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 вечни век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ря Той да помилва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 да ни дад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дойде сам Христо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в рай ще заве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ак е Спасът милости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щава грех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вяра в Него ще съм жи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 вечни век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ей Ти в мене, о, Хрис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Отца царувай та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ител Своя туй сърц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аправи и хр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ак е Спасът милости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щава грех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вяра в Него ще съм жи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 вечни век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4-09T08:09:42Z</dcterms:modified>
  <cp:revision>47</cp:revision>
  <dc:subject/>
  <dc:title>Slide 1</dc:title>
</cp:coreProperties>
</file>